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C01-48AE-46E3-8943-4A8815D6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4AF-EA5C-41DA-9DD7-9302039E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53B-B0CF-42DB-A0C1-B941F96D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81D-6F50-48D9-8174-DFF5548E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BF8-482B-4A48-A2D9-4A175344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D1E-D1F2-4FAF-8515-38926944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F9C-B662-4B10-93A5-2C8EDCC0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53A-2025-4930-81A0-C92EFA48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0C8-9473-4DEA-923B-CE8CC798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88B-D47A-4796-81EE-BC05F8C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D45-79A5-4100-A8D0-E4E63CCD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65F-F9C1-4AD2-B642-98DDDA8F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B984-90A1-4FF6-AD02-23CB116D1E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240" y="1523880"/>
            <a:ext cx="771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- ba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ed 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aOR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22957"/>
          <a:stretch/>
        </p:blipFill>
        <p:spPr>
          <a:xfrm>
            <a:off x="990720" y="99072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9907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699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8214"/>
          <a:stretch/>
        </p:blipFill>
        <p:spPr>
          <a:xfrm>
            <a:off x="91440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1371600" y="762120"/>
            <a:ext cx="6934320" cy="487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84760" y="2476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Times New Roman"/>
              </a:rPr>
              <a:t>Precision-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838080" y="609480"/>
            <a:ext cx="74678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965"/>
          <a:stretch/>
        </p:blipFill>
        <p:spPr>
          <a:xfrm>
            <a:off x="76212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7149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30442"/>
          <a:stretch/>
        </p:blipFill>
        <p:spPr>
          <a:xfrm>
            <a:off x="838080" y="1219320"/>
            <a:ext cx="7925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169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8:47:07Z</dcterms:modified>
  <cp:revision>218</cp:revision>
  <dc:subject/>
  <dc:title>Slide 1</dc:title>
</cp:coreProperties>
</file>